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483-9FEC-4314-A009-6C4C2C49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67B-B4A3-4BAC-B061-1F64665F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F2B-4CE0-41FB-9343-83664B60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E48-78DE-440C-9816-A82BA1F7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D058-C937-443E-BF4D-F43A1AFF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60F5-CF9D-494F-9963-C8DCAC0B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F103-C150-4AE6-B713-AACED3EA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6A50-2324-4EC4-B277-2C17635D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3ACE-0B63-4228-9E08-AFCBD5D2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1B07-F3C2-4EFE-A23E-4C62BB1F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3A21-7739-48B3-A938-49F9B345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CE4-5079-475A-B891-7059D4AA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8E00-494D-4E25-B479-781619D2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A5C7-5884-45BF-9BEB-C86F70DD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8AD7-6140-485C-85F9-402123BE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8BB9-366C-470E-80D1-2A00190A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D9A1-43C5-4D27-BCC2-BA97AA1F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E602-2063-4D0A-A705-D2B7E3EC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7633-19F4-4520-B370-101DFAEB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6BAB-BE0A-46BD-B762-87EAF4C6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FFC4-A16C-4599-AE44-AA579CF1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FEF1-C2D7-4C8F-8F7B-7E9C2C77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357-7871-4669-8008-02AE8341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52D9-D1C4-45A1-8AE7-4DFC3206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2E0AA-0F0A-47B9-AC15-DD891308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BF9ED-7AE0-40F8-AD49-6BE40D9B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4FEC-4827-4C2A-AFFC-1BA8E58F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A6CD-CD73-4232-BF46-C2F9BCB1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3929-2B21-42A2-9487-CF994C3C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3CD0B-2B08-4938-A13A-6C530E97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6778-5ABE-45C4-B3D2-ABA5A4D8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9B2AB-54F0-4E7F-A78D-AF549B9E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A2999-724C-43A3-AFEB-07BD229E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DB4-3227-4AAB-826C-E5AC30E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93E1-F984-4D2A-B22C-BC10C11B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8B03-304A-437C-B183-C362E4BD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8039B-66BA-4420-A53A-F33307DF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D76C9-559D-4415-9173-12C83613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95721-04F9-4621-9840-0E581F38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86BE-4C7C-4441-A1B3-D30B638C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68197-17AB-473F-802B-5A0ED675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A9F80-9D18-4B46-922F-FA59460D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7189A-D010-4C99-BD2A-90731E1D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1AA42-7B9A-4897-B363-58719E87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78A-7D4D-44F6-A407-A5166778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EA18C-8065-47E7-BABE-74727C33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15039-9873-4D5C-B805-E9B95907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157AE-C41F-4292-ADCB-651400D8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9D083-C73C-4CCE-B1D1-08FC227C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20EBD-0CDE-4A57-9967-F7621192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C934-6036-4040-863B-286E4888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D7E34-52A3-46A6-B4E9-4FB0B7B5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5696B-BABB-4A3E-BAEE-102969D5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610AE-24E6-4AA3-B1D2-B72A150C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A5055-3D9E-4CD5-B8C8-92BA48FB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77E-AADF-4E46-A1BA-7F41AD87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1A4EA-E0AE-46BC-ACEB-AE6E2420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D798E-F3C1-4B0A-88DD-C5D3FA81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0451F-C976-4DE6-9DA0-3C678B0E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C676E-9873-4996-9260-47B01378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1DC63-8CDC-48E3-B82F-342D63AE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7937F-2A88-439E-8AC7-7FC1FD69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F6115-CC8A-467C-B02F-1E5826F4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F8BC3-BE28-4D2B-9A49-70ED8A74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675A4-A391-4266-8691-29B76FF6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6A5D2-ACDA-4EBF-A0FD-CA3B36F8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BC1-7D61-4424-B8A0-BA1CF75F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DE920-FFCB-433C-85E5-CD361D74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BC231-ABF4-43B6-94F8-8A890A66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E4CF5-BAB8-4648-9612-F69A65D8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09E87-BEAC-4699-891E-B11E7197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BE354-1654-43AE-84EA-88457DF1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382CE-9B96-4FFC-8D2E-1D3B36B1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AFA59-7CE3-4B6C-9BE7-23648A6C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8BED6-5379-4E1D-962C-69CFC578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2F22C-EF65-42B4-925B-90CBC637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419B9-CE82-44D3-863B-C0ACEA11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956-D955-48D1-B596-2CF6BBB9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2455D-CEFC-49F6-B628-C7290A1F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35D2-1F0E-46CA-9750-67637FCB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E8775-4033-42CD-A5EA-134264CE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39109-2D97-4D81-AD2B-34570B12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B9FAF-9763-4FC0-BEEC-6AD6A2EE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CEB-B446-44AF-9687-5354905F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63B6-6AB6-41BD-8ACA-A66A37ADE090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C46A-1180-444C-B3A0-59CE7AE2E476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CCB3-BA50-4DF5-B122-A7AB8E07EA83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8D40-5EA5-4D6E-AB95-A2AAA42614AF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B195-C36C-47C3-BB30-E8ADFD4DE238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77EB-61AA-4210-BEAB-6182D7650F52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057D-E091-45E9-96A1-99F9989993EC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141264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Виды японского сада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292720" y="4797000"/>
            <a:ext cx="3517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554"/>
                </a:solidFill>
                <a:latin typeface="Corbel"/>
              </a:rPr>
              <a:t>Автор: Сидоров А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554"/>
                </a:solidFill>
                <a:latin typeface="Corbel"/>
              </a:rPr>
              <a:t>10 «А»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Ресурс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ория искусства японского са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илистика японского са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понский сад. Стать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ебник «МХК» 10 класс по ред.      Л.Г. Емохонов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497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488b"/>
                </a:solidFill>
                <a:latin typeface="Corbel"/>
              </a:rPr>
              <a:t>Цель работы: </a:t>
            </a:r>
            <a:br>
              <a:rPr sz="4800"/>
            </a:br>
            <a:br>
              <a:rPr sz="4800"/>
            </a:b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Провести исследование по истории японского сада и выяснить какие виды японского сада существуют и в чем их особенность.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Содержимое 4" descr=""/>
          <p:cNvPicPr/>
          <p:nvPr/>
        </p:nvPicPr>
        <p:blipFill>
          <a:blip r:embed="rId1"/>
          <a:stretch/>
        </p:blipFill>
        <p:spPr>
          <a:xfrm>
            <a:off x="749160" y="1407960"/>
            <a:ext cx="8218800" cy="48466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1258920" y="765000"/>
            <a:ext cx="741672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Виды японского с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97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488b"/>
                </a:solidFill>
                <a:latin typeface="Corbel"/>
              </a:rPr>
              <a:t>Райский сад</a:t>
            </a:r>
            <a:endParaRPr b="0" lang="en-US" sz="4000" spc="-1" strike="noStrike">
              <a:solidFill>
                <a:srgbClr val="11488b"/>
              </a:solidFill>
              <a:latin typeface="Corbel"/>
            </a:endParaRPr>
          </a:p>
        </p:txBody>
      </p:sp>
      <p:pic>
        <p:nvPicPr>
          <p:cNvPr id="324" name="Рисунок 4" descr="070720_01.jpg"/>
          <p:cNvPicPr/>
          <p:nvPr/>
        </p:nvPicPr>
        <p:blipFill>
          <a:blip r:embed="rId1"/>
          <a:stretch/>
        </p:blipFill>
        <p:spPr>
          <a:xfrm>
            <a:off x="4133880" y="3279600"/>
            <a:ext cx="4510080" cy="33894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684360" y="907920"/>
            <a:ext cx="820872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Первые японские сады, как особый вид искусства, появились в эпоху Хэйан. Это был период формирования первого чисто японского стиля садов – стиля Дзёдо, или природного пейзажа (Дзёдо – «рай, чистая земля, совершенство»). В основном это были дворцовые и усадебные сады, которые в своей основе были светскими, но при этом также сохраняли дух религиозно-философского отношения к природе, а именно идеи культа Будды Амиды. Главной особенностью этого сада было то, что создаваемый в саду пейзаж обязательно должен был быть копией какого-то конкретного природного пейзаж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1332000" y="537372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Храм Феникса (1052) в ансамбле Бёдоин в Уд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Управляющая кнопка: назад 5"/>
          <p:cNvSpPr/>
          <p:nvPr/>
        </p:nvSpPr>
        <p:spPr>
          <a:xfrm>
            <a:off x="874872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Пейзажный сад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pic>
        <p:nvPicPr>
          <p:cNvPr id="329" name="Рисунок 3" descr="7f5BUp2Y.jpg"/>
          <p:cNvPicPr/>
          <p:nvPr/>
        </p:nvPicPr>
        <p:blipFill>
          <a:blip r:embed="rId1"/>
          <a:stretch/>
        </p:blipFill>
        <p:spPr>
          <a:xfrm>
            <a:off x="1109520" y="3786120"/>
            <a:ext cx="3986280" cy="26812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1042920" y="1052280"/>
            <a:ext cx="7850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В ХIV–ХVI веках садово-парковое искусство Японии достигает наивысшего расцвета. К этому времени определились каноны создания японских садов. Сложился и основной стиль японского сада – пейзажный. Заимствованный из Китая, он был доведён японцами до филигранного совершенства на основе национальных традиций и самобытн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5292720" y="5732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Пейзажный сад Коракуэн префектуры Окая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Управляющая кнопка: назад 5"/>
          <p:cNvSpPr/>
          <p:nvPr/>
        </p:nvSpPr>
        <p:spPr>
          <a:xfrm>
            <a:off x="8028000" y="6237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Философские сад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Философские типы садов (дзен) создавались в целях медитации при буддийских храмах. К таким садам относятся: сад камней и сад мхов. При их создании используются только камни, гравий и мох. Каждая деталь такого сада способствует, по буддийскому учению дзен, обретению «пустого сердца». Обретение «пустого сердца» _x001f_- так в эстетике дзен обозначается внезапное «пробуждение» сознания, достижение просветления в текущей жизни, чувство слияния с великой Пустотой, которая олицетворяет высшую природу Будд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42920" y="260280"/>
            <a:ext cx="78501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17375e"/>
                </a:solidFill>
                <a:latin typeface="Corbel"/>
              </a:rPr>
              <a:t>Сад храма Рёандзи («храм Умиротворённого дракона») в Киото - вершина японского искусства садов камн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Рисунок 3" descr="kyoto_5.jpg"/>
          <p:cNvPicPr/>
          <p:nvPr/>
        </p:nvPicPr>
        <p:blipFill>
          <a:blip r:embed="rId1"/>
          <a:stretch/>
        </p:blipFill>
        <p:spPr>
          <a:xfrm>
            <a:off x="1901880" y="1768320"/>
            <a:ext cx="5986440" cy="4651560"/>
          </a:xfrm>
          <a:prstGeom prst="rect">
            <a:avLst/>
          </a:prstGeom>
          <a:ln w="0">
            <a:noFill/>
          </a:ln>
        </p:spPr>
      </p:pic>
      <p:sp>
        <p:nvSpPr>
          <p:cNvPr id="337" name="Управляющая кнопка: назад 4"/>
          <p:cNvSpPr/>
          <p:nvPr/>
        </p:nvSpPr>
        <p:spPr>
          <a:xfrm>
            <a:off x="8172360" y="6021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Чайные сад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    </a:t>
            </a: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Дзэнская культура создала ещё одну замечательную разновидность японского сада – сад чайной церемонии . Он был новым не по форме, но по его функциональному назначению. Сад, ведущий ко входу в чайный домик, выступает важным компонентом в этой церемонии, помогая участникам правильно настроиться на предстоящее действо. Эстетика сада целиком соотносится с идеалами Чайной церемонии: простота, скромность, неброское очарование, духовное единение всех участников церемо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Вывод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10920" y="1052640"/>
            <a:ext cx="82515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Исследовав историю зарождения и развития японского сада мы выделили 4 вида сада: райский сад, являющийся первым видом искусства японского сада, пейзажный  сад, продолживший традиции райского сада, философский сад, приобретший необычный вид  и глубокое религиозно-философское наполнение, а также чайный сад, гармонично сочетающий в себе пейзажный стиль и философию буддизма. Каждый из видов сада по своему оригинален и предполагает достижение определенной цели: постижение мира, получения наслаждения, созерцание прекрасного. На основании изученного нами материала можно сделать следующий вывод. Садово-парковое искусство Японии, более чем какое-либо другое, выражает своеобразное идейное отношение японской нации к природе. Это отношение своими корнями уходит в начало национальной японской религии – синтоизм, начиная по-новому звучать с приходом буддизма и</a:t>
            </a:r>
            <a:r>
              <a:rPr b="0" lang="en-US" sz="2000" spc="-1" strike="noStrike">
                <a:solidFill>
                  <a:srgbClr val="17375e"/>
                </a:solidFill>
                <a:latin typeface="Gill Sans MT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дзен-буддизма. Каждая грань этой философии  и религии находит отражение в саде, порождая на свет новые его виды, которые тут же становятся тонким искусством и предметом восхищения многих челов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5:26:17Z</dcterms:created>
  <dc:creator>DNA7 X64</dc:creator>
  <dc:description/>
  <dc:language>en-US</dc:language>
  <cp:lastModifiedBy>DNA7 X64</cp:lastModifiedBy>
  <dcterms:modified xsi:type="dcterms:W3CDTF">2011-04-19T03:21:46Z</dcterms:modified>
  <cp:revision>43</cp:revision>
  <dc:subject/>
  <dc:title>Слайд 1</dc:title>
</cp:coreProperties>
</file>